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0E4-554D-4D73-A06D-7596D56D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A7F-C160-41F0-A1EB-BA774F15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E98-B0CB-40E9-B225-AF26CCEB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C18-EF45-4E39-ACF8-56B520BD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6DB-5243-4FDD-8146-2235BDCD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EAA-404A-44FD-B7B2-435CEB4E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EB9-6F09-4710-9387-F5618288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472-847D-47D2-9B86-36CAF16F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CFF-2F0F-42B8-B9E0-76850624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4A9-532C-4BB5-951B-56E510C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F51-2A5C-4D29-9BDD-D339FB1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E2F-87D1-44B1-96BF-661E8954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6058-8451-437C-8EB5-C5093BFBDB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World progress 1970 - 20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NEW INTERNATIONALIST  EASIER ENGLISH IELTS / ADVANCED READY LES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31896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233280"/>
            <a:ext cx="2791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about global issues and comparing simplified and original art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discussing global issues – practice for the IELTS speaking ex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practice interpreting graphs and writing 150 word summary for IELTS writing exa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 can we measure prog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discuss, then read and make not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eewiki.newint.org/index.php/Measuring_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discuss again, then read the original artic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newint.org/features/2013/03/01/a-measure-of-progress-keynot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now compare the two articles and note down some new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20000" y="4962600"/>
            <a:ext cx="1485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 graphs on the infographic on the next slide (or on the link below, with zoom feature) – and discuss what they show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414972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newint.org/features/2013/03/01/world-progress-the-facts-infograph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3360" y="271440"/>
            <a:ext cx="9047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5410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choose one of the sections of the infographic and write (in pairs, or alone) a summary of what it shows – 150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32520" y="15573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12:06:45Z</dcterms:created>
  <dc:creator>Linda</dc:creator>
  <dc:description/>
  <dc:language>en-US</dc:language>
  <cp:lastModifiedBy>Linda Ruas</cp:lastModifiedBy>
  <dcterms:modified xsi:type="dcterms:W3CDTF">2013-08-01T16:00:02Z</dcterms:modified>
  <cp:revision>10</cp:revision>
  <dc:subject/>
  <dc:title>PowerPoint Presentation</dc:title>
</cp:coreProperties>
</file>